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223-2581-46BD-9D98-7AA66E29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6A1-54E5-49E8-B09A-BAF1A94C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C84-920E-4A03-A316-8693BF01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481-FC1B-42C8-BFE4-6BB83E9A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261-4F81-41EB-9410-8C8F343D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B8B-F9C0-446F-B1E6-4F437494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014-00A2-4F48-B12D-004C0AF3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01F-379E-4CED-A4C4-4FA7CC6F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257-7462-4E67-AC21-A95CDF3E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5AF-EEE8-4EF3-8CDC-AE273FF7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55C-67CA-42D1-8AA7-D2B037C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507-A7CE-48AE-BAB0-7E0586A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CF10-3776-41CE-AC1F-8281BD774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57200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hiboux font ‘hou!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43434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hiboux. Et to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48769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Hou! Houuuuuuuuuuu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8098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Cette fois, j’ai peur. J’ai pe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Toi as-tu pe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581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Oui j’ai pe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95288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Alors, qu’est-ce qu’on fa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426708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5720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La f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8769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idprint"/>
              </a:rPr>
              <a:t> </a:t>
            </a:r>
            <a:r>
              <a:rPr b="0" lang="fr-FR" sz="3200" spc="-1" strike="noStrike">
                <a:solidFill>
                  <a:srgbClr val="99ff66"/>
                </a:solidFill>
                <a:latin typeface="Arial"/>
              </a:rPr>
              <a:t>Je n’ai pas peur de grimper aux ar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257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33"/>
                </a:solidFill>
                <a:latin typeface="Arial"/>
              </a:rPr>
              <a:t>Je n’ai pas peur des bourd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0292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 me balancer très ha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54864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6ff66"/>
                </a:solidFill>
                <a:latin typeface="Arial"/>
              </a:rPr>
              <a:t>Je me balance jusqu’au cie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449568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648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serpents géants</a:t>
            </a:r>
            <a:r>
              <a:rPr b="0" lang="en-US" sz="4000" spc="-1" strike="noStrike">
                <a:solidFill>
                  <a:srgbClr val="99ff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800600"/>
            <a:ext cx="7696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343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s serpents dans l’e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181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ehors la n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800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ff66"/>
                </a:solidFill>
                <a:latin typeface="Arial"/>
              </a:rPr>
              <a:t>Je n’ai pas peur dans le no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0:47Z</dcterms:created>
  <dc:creator>CVJH-LAB</dc:creator>
  <dc:description/>
  <dc:language>en-US</dc:language>
  <cp:lastModifiedBy>nield411</cp:lastModifiedBy>
  <dcterms:modified xsi:type="dcterms:W3CDTF">2008-03-05T22:04:34Z</dcterms:modified>
  <cp:revision>3</cp:revision>
  <dc:subject/>
  <dc:title>Slide 1</dc:title>
</cp:coreProperties>
</file>